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245-EC57-49D7-ABC1-366D3D7A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7C7-D79A-4D2A-ADA4-90499A51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E83-8EA9-4CDC-87C2-953ED0EB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E37-F5D1-4E81-8ED2-BCDCC310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16A-ABF0-4A30-A27D-94D19EFC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6FB-173F-442C-AFB6-A418259A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7FC-B79B-4E78-9AF0-1CB31482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D48-F7B7-4FD5-BA65-E4A1EB42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3A7-7E4A-44CD-90E4-233C7581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CDB-1B60-4FEE-B857-BB29BCEE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C60-BB6A-475B-89E2-EAA1D2E6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2A4-C0D4-4379-9875-9C41F30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5440" indent="-32544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6320" indent="-27144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9000" indent="-21600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25680" indent="-2160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962000" indent="-21564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80E6-45BA-4680-8734-424448A3203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322360" y="239760"/>
            <a:ext cx="44611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OMBRE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DOMICILIO DEL PROVEEDOR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GISTRO FEDERAL DE CONTRIBUYENTES: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TELÉFON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322360" y="252360"/>
            <a:ext cx="4499280" cy="744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86440" y="254160"/>
            <a:ext cx="2160720" cy="722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886440" y="249120"/>
            <a:ext cx="2160720" cy="2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DE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85000" y="647640"/>
            <a:ext cx="21096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DALIDAD DE LA ADJUDICA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27400" y="1057320"/>
            <a:ext cx="4497120" cy="500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22360" y="1603440"/>
            <a:ext cx="4499280" cy="4363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2322360" y="2081160"/>
            <a:ext cx="4499280" cy="636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886440" y="105084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886440" y="14796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6886440" y="1924200"/>
            <a:ext cx="215928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886440" y="2376360"/>
            <a:ext cx="2159280" cy="381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96840" y="1054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96840" y="14860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96840" y="192888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96840" y="2363760"/>
            <a:ext cx="2158920" cy="380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96840" y="1062000"/>
            <a:ext cx="14922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ECHA DE FIRM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96840" y="1494000"/>
            <a:ext cx="2109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NÚMERO DE PEDID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96840" y="2355840"/>
            <a:ext cx="2109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ARTID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82760" y="1914480"/>
            <a:ext cx="82404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REQUISICIÓN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309760" y="1593720"/>
            <a:ext cx="44229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VIGENCIA DEL PEDIDO</a:t>
            </a: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309760" y="1050840"/>
            <a:ext cx="4473720" cy="2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LUGAR DE ENTREGA DE LOS BIENES (CONDICIONES ESPECIALES)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1382760" y="1924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309760" y="2103480"/>
            <a:ext cx="45244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FUNDAMENTO LEGAL Y PLAZO PARA EFECTUAR EL PAG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EN TÉRMINOS DEL ARTÍCULO 51 DE LA LEY DE ADQUISICIONES, ARRENDAMIENTOS Y SERVICIOS DEL SECTOR PÚBLICO, LOS PAGOS QUE SE GENEREN SE REALIZARÁN DENTRO DE LOS 20 (VEINTE) DÍAS NATURALES CONTADOS A PARTIR DE LA ENTREGA DE LAS FACTURAS RESPECTIVAS, UNA VEZ ENTREGADOS LOS BIENES A ENTERA SATISFACCIÓN DEL ÁREA REQUIRENT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86440" y="1427040"/>
            <a:ext cx="2108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DE LA PÓLIZA DE RESPONSABILIDAD CIVI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6886440" y="1015920"/>
            <a:ext cx="210816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PENA CONVENCIONAL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86440" y="1916280"/>
            <a:ext cx="21081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PORCENTAJE DE DEDUCTIVAS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6886440" y="2344680"/>
            <a:ext cx="21081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ANTICIPO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96840" y="2813040"/>
            <a:ext cx="8950320" cy="2838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96840" y="5697360"/>
            <a:ext cx="8948880" cy="300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108000" y="6087960"/>
            <a:ext cx="148104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108000" y="3029040"/>
            <a:ext cx="89265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1"/>
          <p:cNvSpPr/>
          <p:nvPr/>
        </p:nvSpPr>
        <p:spPr>
          <a:xfrm>
            <a:off x="7142040" y="3029040"/>
            <a:ext cx="0" cy="26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96840" y="2841480"/>
            <a:ext cx="7045200" cy="2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DESCRIPCIÓN DE LOS BIE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108000" y="5697360"/>
            <a:ext cx="894852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LEÍDO POR LAS PARTES Y ENTERADAS DE SU CONTENIDO Y ALCANCE LEGAL, SE FIRMA EL PRESENTE PEDIDO POR QUINTUPLICADO POR LOS QUE EN ÉL INTERVINIERON, COMO CONSTANCIA DE SU ACEPTACIÓN, EN  LA CIUDAD DE MÉXICO </a:t>
            </a:r>
            <a:r>
              <a:rPr b="0" lang="es-MX" sz="700" spc="-1" strike="noStrike">
                <a:solidFill>
                  <a:srgbClr val="ff0000"/>
                </a:solidFill>
                <a:latin typeface="Arial"/>
              </a:rPr>
              <a:t>(SEÑALAR LA FECHA EN QUE SE FIRMARÁ EL PEDIDO)</a:t>
            </a:r>
            <a:r>
              <a:rPr b="0" lang="es-MX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589040" y="1046160"/>
            <a:ext cx="0" cy="38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2"/>
          <p:cNvSpPr/>
          <p:nvPr/>
        </p:nvSpPr>
        <p:spPr>
          <a:xfrm>
            <a:off x="122400" y="824040"/>
            <a:ext cx="907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3"/>
          <p:cNvSpPr/>
          <p:nvPr/>
        </p:nvSpPr>
        <p:spPr>
          <a:xfrm>
            <a:off x="900000" y="330120"/>
            <a:ext cx="14400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0000"/>
                </a:solidFill>
                <a:latin typeface="Arial"/>
              </a:rPr>
              <a:t>SEÑALAR EL ÁREA O UNIDAD QUE ADQUIRIRÁ LOS BIENES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5"/>
          <p:cNvSpPr/>
          <p:nvPr/>
        </p:nvSpPr>
        <p:spPr>
          <a:xfrm>
            <a:off x="133200" y="3013200"/>
            <a:ext cx="70455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CARACTERÍSTICAS, ESPECIFICACIONES Y PRECIOS UNITARIOS DE LOS BIENES, SE ENCUENTRAN DESCRITOS EN EL ANEXO ÚNICO DEL PRESENTE PEDIDO, EL CUAL FORMA PARTE INTEGRANTE DEL MISM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31"/>
          <p:cNvSpPr/>
          <p:nvPr/>
        </p:nvSpPr>
        <p:spPr>
          <a:xfrm>
            <a:off x="1596960" y="1055520"/>
            <a:ext cx="6667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HOJ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1 DE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44"/>
          <p:cNvSpPr/>
          <p:nvPr/>
        </p:nvSpPr>
        <p:spPr>
          <a:xfrm>
            <a:off x="1023840" y="800280"/>
            <a:ext cx="1233720" cy="1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PEDIDO DE BIE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45"/>
          <p:cNvSpPr/>
          <p:nvPr/>
        </p:nvSpPr>
        <p:spPr>
          <a:xfrm>
            <a:off x="6886440" y="696960"/>
            <a:ext cx="21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83"/>
          <p:cNvSpPr/>
          <p:nvPr/>
        </p:nvSpPr>
        <p:spPr>
          <a:xfrm>
            <a:off x="3816360" y="6105600"/>
            <a:ext cx="11286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REQUIRE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89"/>
          <p:cNvSpPr/>
          <p:nvPr/>
        </p:nvSpPr>
        <p:spPr>
          <a:xfrm>
            <a:off x="108000" y="1916280"/>
            <a:ext cx="12240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SUFICIENCIA PRESUPUESTARIA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98"/>
          <p:cNvSpPr/>
          <p:nvPr/>
        </p:nvSpPr>
        <p:spPr>
          <a:xfrm>
            <a:off x="7142040" y="5383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08"/>
          <p:cNvSpPr/>
          <p:nvPr/>
        </p:nvSpPr>
        <p:spPr>
          <a:xfrm>
            <a:off x="8561520" y="51865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10"/>
          <p:cNvSpPr/>
          <p:nvPr/>
        </p:nvSpPr>
        <p:spPr>
          <a:xfrm>
            <a:off x="7983360" y="51926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15"/>
          <p:cNvSpPr/>
          <p:nvPr/>
        </p:nvSpPr>
        <p:spPr>
          <a:xfrm>
            <a:off x="7983360" y="5186520"/>
            <a:ext cx="106380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29160" bIns="-2916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16"/>
          <p:cNvSpPr/>
          <p:nvPr/>
        </p:nvSpPr>
        <p:spPr>
          <a:xfrm>
            <a:off x="7983360" y="500364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23"/>
          <p:cNvSpPr/>
          <p:nvPr/>
        </p:nvSpPr>
        <p:spPr>
          <a:xfrm>
            <a:off x="798336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26"/>
          <p:cNvSpPr/>
          <p:nvPr/>
        </p:nvSpPr>
        <p:spPr>
          <a:xfrm>
            <a:off x="8561520" y="48132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35280" bIns="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36"/>
          <p:cNvSpPr/>
          <p:nvPr/>
        </p:nvSpPr>
        <p:spPr>
          <a:xfrm>
            <a:off x="7147080" y="4813200"/>
            <a:ext cx="19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920" rIns="70920" tIns="-35280" bIns="-35280" anchor="t">
            <a:noAutofit/>
          </a:bodyPr>
          <a:p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9"/>
          <p:cNvSpPr/>
          <p:nvPr/>
        </p:nvSpPr>
        <p:spPr>
          <a:xfrm>
            <a:off x="7170840" y="4991040"/>
            <a:ext cx="82080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Arial"/>
              </a:rPr>
              <a:t>MONT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8"/>
          <p:cNvSpPr/>
          <p:nvPr/>
        </p:nvSpPr>
        <p:spPr>
          <a:xfrm>
            <a:off x="231840" y="6138720"/>
            <a:ext cx="120312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PROVEEDO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83"/>
          <p:cNvSpPr/>
          <p:nvPr/>
        </p:nvSpPr>
        <p:spPr>
          <a:xfrm>
            <a:off x="7259760" y="6113520"/>
            <a:ext cx="1725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CONTRAT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98 CuadroTexto"/>
          <p:cNvSpPr/>
          <p:nvPr/>
        </p:nvSpPr>
        <p:spPr>
          <a:xfrm>
            <a:off x="8018640" y="481320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SUB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1 CuadroTexto"/>
          <p:cNvSpPr/>
          <p:nvPr/>
        </p:nvSpPr>
        <p:spPr>
          <a:xfrm>
            <a:off x="8018640" y="5003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I.V.A.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2 CuadroTexto"/>
          <p:cNvSpPr/>
          <p:nvPr/>
        </p:nvSpPr>
        <p:spPr>
          <a:xfrm>
            <a:off x="8018640" y="5192640"/>
            <a:ext cx="5619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625760" y="6086520"/>
            <a:ext cx="1822320" cy="739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3468600" y="6093000"/>
            <a:ext cx="182268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720900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83"/>
          <p:cNvSpPr/>
          <p:nvPr/>
        </p:nvSpPr>
        <p:spPr>
          <a:xfrm>
            <a:off x="1692360" y="6103800"/>
            <a:ext cx="172728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ADMINISTRADOR DEL CONTRAT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83"/>
          <p:cNvSpPr/>
          <p:nvPr/>
        </p:nvSpPr>
        <p:spPr>
          <a:xfrm>
            <a:off x="5689440" y="6105600"/>
            <a:ext cx="1128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" spc="-1" strike="noStrike">
                <a:solidFill>
                  <a:srgbClr val="000000"/>
                </a:solidFill>
                <a:latin typeface="Arial"/>
              </a:rPr>
              <a:t>POR EL ÁREA TÉCN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5342040" y="6093000"/>
            <a:ext cx="1822320" cy="739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66 Imagen" descr="LOGO SALUD.jpg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08000" y="26028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21:21Z</dcterms:created>
  <dc:creator>Mario González</dc:creator>
  <dc:description/>
  <dc:language>en-US</dc:language>
  <cp:lastModifiedBy>CCINSHAE</cp:lastModifiedBy>
  <cp:lastPrinted>2012-06-26T00:59:07Z</cp:lastPrinted>
  <dcterms:modified xsi:type="dcterms:W3CDTF">2017-07-20T18:27:13Z</dcterms:modified>
  <cp:revision>551</cp:revision>
  <dc:subject/>
  <dc:title>Diapositiva 1</dc:title>
</cp:coreProperties>
</file>